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AB1-E68D-4918-9B64-705D73FB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E7F-E75C-4CE0-8E2D-EEE3D1CD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7B1-C7E0-4991-B045-2FC2F006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CB5-6C8D-41FC-B5C8-C0BDAE11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365-9A09-4BEB-A9B3-028C2718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887-81B6-4B59-BD1B-3EFA3355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B2F-D360-4EC8-ACD5-2FE43F8D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4FA-D01E-4B8C-B7A9-37C3D665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9FB-10D3-4EA6-970B-E2E008F9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3E0-9461-4AC9-8AB7-470A1E0A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2E1-30BF-43F6-96EE-85B0185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867-85E7-4418-B5C1-6A3FC6F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52CF-7085-4F26-B3A1-87782107D57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zingapúri Köztársasá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észítette: Nochta Lászl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ászló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1341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rizm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állodai kapacitás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-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1-6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0) 34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6) 807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4) 1117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) 72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zállodalánco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r Seasons, Shangri-La, Sheraton, Mariott, Inter-Continental, Novotel, Hilton, Hyatt, Ritz Carlton, Le Merid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két legkedveltebb szálloda: Hotel Fullerton és a Hotel Raff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rizm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állodai statisztik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Összes szob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jsza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.742.82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.874.1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.220.6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használható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oba éjszaká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.246.04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.476.97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.458.3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használtság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0.6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7.1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4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tlagos szoba á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G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23.9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8.5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bevét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llió SG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1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4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9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átnivaló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Fullerton%20Hotel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306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átnival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00200" y="5562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tel Fuller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Fullerton%201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700880" cy="3525840"/>
          </a:xfrm>
          <a:prstGeom prst="rect">
            <a:avLst/>
          </a:prstGeom>
          <a:ln w="0">
            <a:noFill/>
          </a:ln>
        </p:spPr>
      </p:pic>
      <p:pic>
        <p:nvPicPr>
          <p:cNvPr id="70" name="grandstairs_ecard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27986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átnivaló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5410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tel Raff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Raffles%20Hotel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4817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átnivalók, érdekesség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arbor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013280" cy="2384280"/>
          </a:xfrm>
          <a:prstGeom prst="rect">
            <a:avLst/>
          </a:prstGeom>
          <a:ln w="0">
            <a:noFill/>
          </a:ln>
        </p:spPr>
      </p:pic>
      <p:pic>
        <p:nvPicPr>
          <p:cNvPr id="76" name="SGD2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4508640" cy="2167200"/>
          </a:xfrm>
          <a:prstGeom prst="rect">
            <a:avLst/>
          </a:prstGeom>
          <a:ln w="0">
            <a:noFill/>
          </a:ln>
        </p:spPr>
      </p:pic>
      <p:pic>
        <p:nvPicPr>
          <p:cNvPr id="77" name="SGD1" descr=""/>
          <p:cNvPicPr/>
          <p:nvPr/>
        </p:nvPicPr>
        <p:blipFill>
          <a:blip r:embed="rId3"/>
          <a:stretch/>
        </p:blipFill>
        <p:spPr>
          <a:xfrm>
            <a:off x="4343400" y="1981080"/>
            <a:ext cx="450864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átnivalók, érdekesség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4648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rong Madár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adár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81" name="bird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482292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madárpark" descr=""/>
          <p:cNvPicPr/>
          <p:nvPr/>
        </p:nvPicPr>
        <p:blipFill>
          <a:blip r:embed="rId3"/>
          <a:stretch/>
        </p:blipFill>
        <p:spPr>
          <a:xfrm>
            <a:off x="457200" y="4168800"/>
            <a:ext cx="3276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asza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9560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zingapú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lkelet-Ázsia, Malajzia és Indonézia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nagy (Szingapúr) és 58 kisebb szi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áj jelentés Oroszlánváros – Singa P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pít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. század indonéz telepü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19 Sir Stamford Raffles, brit koronagyarmat és kereskedelmi közp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3-65 föderáció Malajziá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5 óta függet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Általános információ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ül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47 k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épessé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,35 millió f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kosság kevert 78% kínai, 15% indai, a többi maláj, tam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épsűrűsé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700 fő/k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énzn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GD (1€ ~ 1,92 SG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özlekedé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ízi- és légi úton könnyen elérhe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őeltolódá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MT +8 óra, Magyarország. +7 ó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ízu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gyar állampolgár 90 napig vízummentes (nem automatikus 3x30 n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llá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onfuciánus, buddhista, mohamedán, hi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yelv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ndard kínai (mandarin), maláj, tamil, angol (általános munkanyel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Általán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mborza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Dél-kínai-tenger szigetein fekszik, tagolt, domborzatilag semmi érdekessé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lí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ópusi éghajlat, este 20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, nappal 30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egész évben, magas páratartalom, sok eső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ős évszak szept. – már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zdasá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D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,82 milliárd SGD (12% turizm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or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,36 milliárd S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,93 milliárd S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azdasági növekedé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-8% é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nkanélkülisé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-3% (2005 dece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ghatározó kereskedelmi és pénzügyi központ. Japán és USA befolyásolja, illetve az elmúlt években iraki háború, SARS-járvá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zdasá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ektronika központúság (kivitel 2/3-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énzügyi sze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ekommunik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fektetések áttekinthetők, kvóták és vámjellegű akadályok nincse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+F elképesztő fejlődése kutatás-agresszív egyetem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vostudomány fejlesztése „beteg ember mindig les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pán a fő vetélytá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rizm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ejlett, jól szervezett, kiváló infrastruktú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xus- és közép kategória a jellem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csó szálláshely korlátozot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özbiztonság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iváló – alacsony bűnözés, terrorizmus (fegye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ztonsá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rs-járvány megfékezése 2003-ban, madárinfluenza még nem 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sztaság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gyüttesen jó hatással vannak a turizmusra és az üzleti él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rizm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utazók megoszlása érdeklődés szerint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yaralá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Üzle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z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átogatá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ktatá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gyé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z 5 legnagyobb küldő ország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szá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átogató (ez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donéz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7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ín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sztrál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lajz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23:11:25Z</dcterms:created>
  <dc:creator>x</dc:creator>
  <dc:description/>
  <dc:language>en-US</dc:language>
  <cp:lastModifiedBy>x</cp:lastModifiedBy>
  <dcterms:modified xsi:type="dcterms:W3CDTF">2006-05-11T04:06:01Z</dcterms:modified>
  <cp:revision>9</cp:revision>
  <dc:subject/>
  <dc:title>Szingapúri Köztársaság</dc:title>
</cp:coreProperties>
</file>